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51EC-F14B-403B-BD95-EC74F91AA8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about 2 hours: Quiz – 10 mins; Reading 1 – 20 mins; Jigsaw reading – 20 mins; Speaking – 20 mins; Writing – 4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45FF-42D5-4311-91B7-43CC5DE80C4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these questions in smal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5319-A11F-4096-BC7C-4635D3CA4A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 to quiz: 1/b  2/c  3/a  4/a  5/c  6/c  7/a  8/b     Learners can access this on-line, the teacher can print it out beforehand, or learners can read it from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590C-10CD-4B9D-8F32-5C8478B28A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access these on-line, or the teacher can print them out beforeh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5BE5-7B41-4D4E-8DA2-43684A6691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 for errors and write these on the board for post-task error cor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AA29-F09B-44D6-B1FF-1BB1AEDC4D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stick their completed letters to the board, then read each other’s, pointing out where they are successful and where they could be impro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7C49-2290-46E6-921C-1D8CEA7D5C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E5A7-F7B5-498D-A125-A3D82702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AB1-EE3D-4813-8BFD-C261E40D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DE2-5842-40B4-B316-D3980257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D4D0-3650-44C3-9BE9-3F7D7666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A89D-2B41-46D2-8838-AAC86018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2BB-227C-4466-9236-E9DD05FB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E3E9-4442-4A0E-9AA4-3331D08A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E6D4-F0DD-4244-A83A-407BBBE9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0CF-7E3B-4BF3-9B26-C152416C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4268-13DB-492B-B628-5841104B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C17-B55E-42D6-B522-579E273C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8BC-EFB7-4928-BADC-D891629D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576E-37CE-49A6-80B0-C97405F712F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The_Spirit_of_Saro-Wiwa_fights_again_in_the_Niger_Delta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58920" y="2130120"/>
            <a:ext cx="5398920" cy="25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000000"/>
                </a:solidFill>
                <a:latin typeface="Calibri"/>
              </a:rPr>
              <a:t>Oil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5084640"/>
            <a:ext cx="70167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ermediate   New Internationalist  Easier English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667240" cy="3771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649680" y="333360"/>
            <a:ext cx="5175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1916280"/>
            <a:ext cx="87375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Reading: articles about oi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b050"/>
                </a:solidFill>
                <a:latin typeface="Calibri"/>
              </a:rPr>
              <a:t>Speaking: about problems and solution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7030a0"/>
                </a:solidFill>
                <a:latin typeface="Calibri"/>
              </a:rPr>
              <a:t>Writing: a formal persuasive lett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940360" y="43657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780000" y="4255920"/>
            <a:ext cx="1695240" cy="239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79200" y="4300560"/>
            <a:ext cx="3340440" cy="2224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6804000" y="115920"/>
            <a:ext cx="2287440" cy="152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5"/>
          <a:stretch/>
        </p:blipFill>
        <p:spPr>
          <a:xfrm>
            <a:off x="250920" y="115920"/>
            <a:ext cx="21603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iz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1125000"/>
            <a:ext cx="8785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Where is Ogoni? (one of the most polluted places in the world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ustralia      b) Nigeria    c) Germa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2. Why are people protesting in Ogoni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They want more money      b) They want more oil   c) They want less pol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3. How long have they had oil pollution in Ogoni?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50 years   b) 10 years   c) 5 ye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4. How much money did Shell pay the Ogoni community in 1970 when the pollution was very bad?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£168    b) £1680    c) £16,8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5. Who was Ken Saro-Wiwa?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 Shell worker who suffered from pol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 Nigerian murderer who didn’t like She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 protester who the Nigerian government kill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6. The levels of dangerous chemicals in the water in Ogoniland a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9 times    b) 90 times    c) 900 ti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more than the maximum WHO (World Health Organisation) lim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7. Life expectancy in the Niger Delta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45    b) 52    c) 5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8. After the oil spills in 2008 and 2009 that destroyed the area, Shell offered to pay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$5 million    b) $50 million    c) $500 mill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ow read this to check your answers:</a:t>
            </a:r>
            <a:br>
              <a:rPr sz="4000"/>
            </a:b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The_Spirit_of_Saro-Wiwa_fights_again_in_the_Niger_Delt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"/>
          <p:cNvPicPr/>
          <p:nvPr/>
        </p:nvPicPr>
        <p:blipFill>
          <a:blip r:embed="rId2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igsaw read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892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Divide into groups of 4 (A, B, C and D). Each read one of these articles about oil (C &amp; D are shorter articles), and find problems and solutions about oil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)  http://eewiki.newint.org/index.php/Ending_the_Oil_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) http://eewiki.newint.org/index.php/I_was_watched_by_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eewiki.newint.org/index.php/Universities_take_action_on_anti-fossil_fu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)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eewiki.newint.org/index.php/Football_must_stop_working_with_oil_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372360" y="5445000"/>
            <a:ext cx="22208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15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In groups of A, B, C and D, discuss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600200"/>
            <a:ext cx="857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600" spc="-1" strike="noStrike">
                <a:solidFill>
                  <a:srgbClr val="000000"/>
                </a:solidFill>
                <a:latin typeface="Calibri"/>
              </a:rPr>
              <a:t>OIL: problems and solutions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454640" y="3716280"/>
            <a:ext cx="4440240" cy="295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166680" y="3933720"/>
            <a:ext cx="34210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 pairs, write a letter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a) UEF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b) your local football team 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c) your local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suade them to stop investing in oil, and explain the reasons why this is important for the worl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292720" y="189000"/>
            <a:ext cx="371952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11:03:42Z</dcterms:created>
  <dc:creator>Linda Ruas</dc:creator>
  <dc:description/>
  <dc:language>en-US</dc:language>
  <cp:lastModifiedBy>Linda Ruas</cp:lastModifiedBy>
  <dcterms:modified xsi:type="dcterms:W3CDTF">2014-11-23T16:03:09Z</dcterms:modified>
  <cp:revision>10</cp:revision>
  <dc:subject/>
  <dc:title>Oil</dc:title>
</cp:coreProperties>
</file>